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9.jpeg" ContentType="image/jpeg"/>
  <Override PartName="/ppt/media/Turkey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3F3F7-DCB5-47CC-BD32-37FB2FD0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B25A8-42F2-44D9-A2BA-3C45CFB3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5A4D2-0971-470D-A047-A2B20021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19DE4-3ECF-4E27-8CA0-0A3C5344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03F7-6604-4B91-A76D-65705F7C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60BD-E9A2-49B7-9658-1F91B7F0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4C08-A299-4756-AB4B-28834A35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D6C9-F034-46FC-AB9A-1F4BBAD9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36C5-161F-441E-8967-37EDC09A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0DF8-23FE-4516-931C-4D97C9AA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59B4-57BF-4187-919E-32C4D249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2DE4A-59C6-455F-9B8D-EFCCE474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3AC0-8CBB-4FC1-97DD-7C620E17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C690-2DD2-4840-BDEF-0C718884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4850-E9E9-44E6-854A-E5337FAE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6A81-5A1B-4C87-A9BA-B19AE937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C977-3688-4F41-90B3-67FFF143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3C837-109D-49AB-B8B0-D85A461F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B612A-DB5F-497A-9C08-1FDDFF60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E7800-BAB8-4C93-A793-A799988D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94834-FEAF-4BAB-8FB0-D5DFFDBD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B288E-92B7-40F1-8376-598BAA91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5E8DE-1184-4AB4-9831-E55E1DB8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2D88C-3D53-4661-9DEB-A2B61379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3575-2743-48DA-A842-46F9434280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CF24-729A-4C2B-9882-87C7E14A5A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2.gif"/><Relationship Id="rId4" Type="http://schemas.openxmlformats.org/officeDocument/2006/relationships/audio" Target="../media/Turkey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7a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URKE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17 Section 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5375520" cy="5951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sporus Str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 of Marm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d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429000" y="342900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28195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27672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30481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kish S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29600" y="685800"/>
            <a:ext cx="647640" cy="476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tolia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0" y="609480"/>
            <a:ext cx="3747960" cy="5662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5800" y="5943600"/>
            <a:ext cx="647640" cy="476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 Fa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tton, Toba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Indus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2997000" cy="2819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01000" y="685800"/>
            <a:ext cx="647640" cy="476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8% Muslim - Mos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k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rds –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001000" y="60948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2781360" cy="1676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581280" y="3124080"/>
            <a:ext cx="5400720" cy="3514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anb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kara -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7229520" cy="3108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01000" y="609480"/>
            <a:ext cx="647640" cy="476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819520" y="22096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19810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zan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743200" y="34290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4495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29718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in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4852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tanb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010280" y="1523880"/>
            <a:ext cx="1724040" cy="2743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001000" y="609480"/>
            <a:ext cx="647640" cy="476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TOMAN EMPIRE – WWI – Def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mal Atatu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ized 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495680" y="2971800"/>
            <a:ext cx="4648320" cy="3276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828800" y="4724280"/>
            <a:ext cx="1233360" cy="1590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8001000" y="609480"/>
            <a:ext cx="647640" cy="4762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4" name="Turkey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8:01:39Z</dcterms:created>
  <dc:creator>Joe Dirt</dc:creator>
  <dc:description/>
  <dc:language>en-US</dc:language>
  <cp:lastModifiedBy>Joe Dirt</cp:lastModifiedBy>
  <dcterms:modified xsi:type="dcterms:W3CDTF">2008-01-04T18:50:31Z</dcterms:modified>
  <cp:revision>4</cp:revision>
  <dc:subject/>
  <dc:title>Southwest Asia</dc:title>
</cp:coreProperties>
</file>